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900-D81C-47DB-B395-181A22A7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970-4DD4-4A4C-910F-0AFAB66D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8F8-DD44-46F4-BE42-62AF7128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05F-05E9-4D77-8E7C-55826A45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E82A-CA2C-457F-B33D-A73F4E53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911A-BCBB-4F77-BA74-988F3965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A47B-E630-4E25-AA42-6631C319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90DC-192B-4C14-AAAF-7D46D035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AC6B-1D60-4FD4-B54E-421BBB6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D264-2E7E-49FF-B36C-6C1F1457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3C5-1E9E-4150-ADB8-AC14571D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FB8-004A-4130-8DD8-B559C38B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598-F856-489B-BC8D-C0B82219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D441-6090-48B6-A43E-E9E29805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FDE0-186C-40EF-B526-58CEE0CF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15E6-FD57-46F0-A9CA-DB7DACA2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D06C-952C-4202-8944-1373201A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FB7-0DD0-400F-86FA-37693C3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430-DFE3-4DD7-8B37-FD6BB951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298-ABBE-4698-B22A-59CE80AF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AC8-1EE9-4F13-A559-4724A6F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72A-C307-493F-9B4A-3C042EA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1E1-CA32-4ED6-96D9-4766B683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FD7-7933-4B36-B1C3-7528F82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98DD-BE01-4B7A-B79C-35942B4CA254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C040-326B-45C5-A7F3-7CB207163F01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meron Gibs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wi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648320"/>
            <a:ext cx="392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ull name: Cameron Miche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ge: 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B: 14 August 198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orn in: Auckland New Zea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eight:6’6’’ (199 c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eight:181 lbs (82 k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383220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Mo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a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Sibling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ere they grew up: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556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Past Olympics: Beijing 2008,Commonwealth g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wards won: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62720" y="2451240"/>
            <a:ext cx="2754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(Training, food, lifestyle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althy food train every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56000" y="2602080"/>
            <a:ext cx="4392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I have chosen swimming is a good sport is and Cameron Gibson has a Great person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19640" y="2577960"/>
            <a:ext cx="1876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5T02:34:05Z</dcterms:modified>
  <cp:revision>5</cp:revision>
  <dc:subject/>
  <dc:title>Name of Athlete</dc:title>
</cp:coreProperties>
</file>